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94D-ADB4-4C51-BE81-8CC25B10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E44-A438-44D8-BD00-FA938C62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37A-ABD3-4FC3-94F3-D1C8A76E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B962-A42B-4F5F-BA5D-37CD4057C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7E9C-080C-45E9-ADE1-35410BB2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3D2C-D1CD-4450-999F-FB852E67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040-D029-485F-B903-0BB47C60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C47F-1245-4C96-A9F3-4334EAAE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1A06-E3B0-46E2-9AA2-D848F95E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5312-FB92-4107-BA40-26BE0120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BCC-0F15-4D0C-BBF6-B43DA24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C689-B8F4-48CD-9CA1-8F642B01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B2D6-08BC-4653-9BD9-6A9868DB1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a ti piac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4800600"/>
            <a:ext cx="1600200" cy="1600200"/>
          </a:xfrm>
          <a:prstGeom prst="smileyFace">
            <a:avLst>
              <a:gd name="adj" fmla="val -4652"/>
            </a:avLst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62920" y="1295280"/>
            <a:ext cx="1523880" cy="152424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3716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sa ti pi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i piace la  torta di cioccol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54864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osa non ti pia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on mi piace il formagg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638680" y="2514600"/>
          <a:ext cx="146700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514600"/>
                    <a:ext cx="146700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362320" y="3886200"/>
          <a:ext cx="1303200" cy="12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886200"/>
                    <a:ext cx="1303200" cy="12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sa ti piace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971800"/>
            <a:ext cx="1523880" cy="152388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57200"/>
            <a:ext cx="4800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Indicate what you like using the words in the colum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i piac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0120" y="1219320"/>
          <a:ext cx="8492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1219320"/>
                    <a:ext cx="8492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696080" y="2590920"/>
          <a:ext cx="80172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2590920"/>
                    <a:ext cx="8017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7467480" y="4191120"/>
          <a:ext cx="971640" cy="93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67480" y="4191120"/>
                    <a:ext cx="9716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7391520" y="5867280"/>
          <a:ext cx="1338120" cy="79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91520" y="5867280"/>
                    <a:ext cx="13381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4876920" y="1143000"/>
            <a:ext cx="24382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l bisc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a limon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il gel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’ar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2952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 piace....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762120"/>
            <a:ext cx="1523880" cy="1523880"/>
          </a:xfrm>
          <a:prstGeom prst="smileyFace">
            <a:avLst>
              <a:gd name="adj" fmla="val 9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419720" y="1143000"/>
          <a:ext cx="99036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143000"/>
                    <a:ext cx="9903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343400" y="2362320"/>
          <a:ext cx="102384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362320"/>
                    <a:ext cx="10238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495680" y="3733920"/>
          <a:ext cx="77652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733920"/>
                    <a:ext cx="7765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343400" y="4876920"/>
          <a:ext cx="1154160" cy="10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4876920"/>
                    <a:ext cx="11541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133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i piac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1752480"/>
            <a:ext cx="1981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a scuo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l cavall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a trotto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’aquil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114800"/>
            <a:ext cx="1523880" cy="1523880"/>
          </a:xfrm>
          <a:prstGeom prst="smileyFace">
            <a:avLst>
              <a:gd name="adj" fmla="val 9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 piace....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762120"/>
            <a:ext cx="1523880" cy="1523880"/>
          </a:xfrm>
          <a:prstGeom prst="smileyFace">
            <a:avLst>
              <a:gd name="adj" fmla="val 9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419720" y="1143000"/>
          <a:ext cx="990360" cy="89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143000"/>
                    <a:ext cx="99036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343400" y="2362320"/>
          <a:ext cx="1023840" cy="91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2362320"/>
                    <a:ext cx="10238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495680" y="3733920"/>
          <a:ext cx="77652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733920"/>
                    <a:ext cx="77652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343400" y="4876920"/>
          <a:ext cx="1154160" cy="1044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43400" y="4876920"/>
                    <a:ext cx="115416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133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i piac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114800"/>
            <a:ext cx="1523880" cy="1523880"/>
          </a:xfrm>
          <a:prstGeom prst="smileyFace">
            <a:avLst>
              <a:gd name="adj" fmla="val 9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05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352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95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2057400"/>
            <a:ext cx="12952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Si, mi pi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No, non mi pi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012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15238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 piace....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762120"/>
            <a:ext cx="1523880" cy="1523880"/>
          </a:xfrm>
          <a:prstGeom prst="smileyFace">
            <a:avLst>
              <a:gd name="adj" fmla="val -465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33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i piac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16765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l serpe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l tempor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l most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La puntu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4114800"/>
            <a:ext cx="1523880" cy="1523880"/>
          </a:xfrm>
          <a:prstGeom prst="smileyFace">
            <a:avLst>
              <a:gd name="adj" fmla="val -465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96080" y="1295280"/>
          <a:ext cx="1122480" cy="7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1295280"/>
                    <a:ext cx="112248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267080" y="2438280"/>
          <a:ext cx="99072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438280"/>
                    <a:ext cx="99072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7543800" y="3581280"/>
          <a:ext cx="68436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43800" y="3581280"/>
                    <a:ext cx="6843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62520" y="5029200"/>
          <a:ext cx="126684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5029200"/>
                    <a:ext cx="12668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257800" y="304920"/>
            <a:ext cx="354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i piace....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762120"/>
            <a:ext cx="1523880" cy="1523880"/>
          </a:xfrm>
          <a:prstGeom prst="smileyFace">
            <a:avLst>
              <a:gd name="adj" fmla="val -465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i piac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4114800"/>
            <a:ext cx="1523880" cy="1523880"/>
          </a:xfrm>
          <a:prstGeom prst="smileyFace">
            <a:avLst>
              <a:gd name="adj" fmla="val -465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96080" y="1295280"/>
          <a:ext cx="1122480" cy="7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1295280"/>
                    <a:ext cx="112248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67080" y="2438280"/>
          <a:ext cx="99072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438280"/>
                    <a:ext cx="99072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96080" y="3962520"/>
          <a:ext cx="68436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96080" y="3962520"/>
                    <a:ext cx="68436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962520" y="5029200"/>
          <a:ext cx="1266840" cy="89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2520" y="5029200"/>
                    <a:ext cx="126684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257800" y="1905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3276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59436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62520" y="2057400"/>
            <a:ext cx="3276360" cy="3124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304920"/>
            <a:ext cx="1066680" cy="990360"/>
          </a:xfrm>
          <a:prstGeom prst="smileyFace">
            <a:avLst>
              <a:gd name="adj" fmla="val -4652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5715000"/>
            <a:ext cx="990720" cy="914400"/>
          </a:xfrm>
          <a:prstGeom prst="smileyFace">
            <a:avLst>
              <a:gd name="adj" fmla="val -465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228600"/>
            <a:ext cx="990360" cy="99072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72400" y="5638680"/>
            <a:ext cx="1066680" cy="990720"/>
          </a:xfrm>
          <a:prstGeom prst="smileyFace">
            <a:avLst>
              <a:gd name="adj" fmla="val 9282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191120" y="304920"/>
          <a:ext cx="8474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04920"/>
                    <a:ext cx="847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6248520" y="228600"/>
          <a:ext cx="9745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974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7772400" y="1676520"/>
          <a:ext cx="1060560" cy="106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1676520"/>
                    <a:ext cx="1060560" cy="106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7924680" y="3886200"/>
          <a:ext cx="82404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24680" y="3886200"/>
                    <a:ext cx="8240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33720" y="1828800"/>
          <a:ext cx="1066680" cy="91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1828800"/>
                    <a:ext cx="10666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2133720" y="3733920"/>
          <a:ext cx="1066680" cy="123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33720" y="3733920"/>
                    <a:ext cx="106668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3962520" y="5638680"/>
          <a:ext cx="1141200" cy="96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62520" y="5638680"/>
                    <a:ext cx="11412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733920" y="12952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l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510552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l bim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86600" y="2895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 l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2895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a scim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81080" y="50292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l pipistr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60958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admin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1371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L’elef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25909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5909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02160" y="3551400"/>
            <a:ext cx="2230560" cy="1025280"/>
          </a:xfrm>
          <a:custGeom>
            <a:avLst/>
            <a:gdLst/>
            <a:ahLst/>
            <a:rect l="l" t="t" r="r" b="b"/>
            <a:pathLst>
              <a:path w="1405" h="646">
                <a:moveTo>
                  <a:pt x="0" y="0"/>
                </a:moveTo>
                <a:cubicBezTo>
                  <a:pt x="8" y="65"/>
                  <a:pt x="2" y="138"/>
                  <a:pt x="39" y="194"/>
                </a:cubicBezTo>
                <a:cubicBezTo>
                  <a:pt x="56" y="262"/>
                  <a:pt x="94" y="316"/>
                  <a:pt x="133" y="374"/>
                </a:cubicBezTo>
                <a:cubicBezTo>
                  <a:pt x="147" y="396"/>
                  <a:pt x="166" y="414"/>
                  <a:pt x="180" y="436"/>
                </a:cubicBezTo>
                <a:cubicBezTo>
                  <a:pt x="185" y="444"/>
                  <a:pt x="187" y="454"/>
                  <a:pt x="195" y="459"/>
                </a:cubicBezTo>
                <a:cubicBezTo>
                  <a:pt x="204" y="465"/>
                  <a:pt x="216" y="464"/>
                  <a:pt x="226" y="467"/>
                </a:cubicBezTo>
                <a:cubicBezTo>
                  <a:pt x="289" y="514"/>
                  <a:pt x="361" y="549"/>
                  <a:pt x="437" y="569"/>
                </a:cubicBezTo>
                <a:cubicBezTo>
                  <a:pt x="518" y="622"/>
                  <a:pt x="633" y="625"/>
                  <a:pt x="725" y="646"/>
                </a:cubicBezTo>
                <a:cubicBezTo>
                  <a:pt x="824" y="644"/>
                  <a:pt x="922" y="643"/>
                  <a:pt x="1021" y="639"/>
                </a:cubicBezTo>
                <a:cubicBezTo>
                  <a:pt x="1056" y="637"/>
                  <a:pt x="1123" y="615"/>
                  <a:pt x="1123" y="615"/>
                </a:cubicBezTo>
                <a:cubicBezTo>
                  <a:pt x="1157" y="593"/>
                  <a:pt x="1196" y="566"/>
                  <a:pt x="1224" y="537"/>
                </a:cubicBezTo>
                <a:cubicBezTo>
                  <a:pt x="1276" y="483"/>
                  <a:pt x="1301" y="398"/>
                  <a:pt x="1356" y="343"/>
                </a:cubicBezTo>
                <a:cubicBezTo>
                  <a:pt x="1368" y="306"/>
                  <a:pt x="1402" y="274"/>
                  <a:pt x="1403" y="233"/>
                </a:cubicBezTo>
                <a:cubicBezTo>
                  <a:pt x="1405" y="158"/>
                  <a:pt x="1403" y="82"/>
                  <a:pt x="1403" y="7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5029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osa ti pia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1:12:26Z</dcterms:created>
  <dc:creator>Preferred Customer</dc:creator>
  <dc:description/>
  <dc:language>en-US</dc:language>
  <cp:lastModifiedBy>VALERIA PALLADINO</cp:lastModifiedBy>
  <cp:lastPrinted>2003-04-26T01:31:04Z</cp:lastPrinted>
  <dcterms:modified xsi:type="dcterms:W3CDTF">2003-10-16T15:18:17Z</dcterms:modified>
  <cp:revision>9</cp:revision>
  <dc:subject/>
  <dc:title>No Slide Title</dc:title>
</cp:coreProperties>
</file>